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60851"/>
        <c:axId val="52852016"/>
      </c:barChart>
      <c:catAx>
        <c:axId val="60860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52016"/>
        <c:crosses val="autoZero"/>
        <c:auto val="1"/>
        <c:lblAlgn val="ctr"/>
        <c:lblOffset val="100"/>
        <c:noMultiLvlLbl val="0"/>
      </c:catAx>
      <c:valAx>
        <c:axId val="52852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60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553-7896-4A5C-ACC1-A6A32414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410-26FB-4814-8B63-02168EAE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234-40F7-40C1-93B6-13323739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9E5-4092-4B5F-A8AB-E54F73D1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B0C-8163-4058-8501-482E4980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143-C520-404E-BD10-FAAA6FAD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57C-3865-4B40-A9E6-29C084D5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036-8856-4285-86B3-F4977598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1D8-9185-4663-B1A1-301D312A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B9C-8D27-487F-9A1D-1AE1F795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61A-FA47-4AC9-95A6-CD5C923F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379-3F18-424E-B0AF-A05606A8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E58ED-FF3F-437A-831F-6FEFE0529F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