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63980"/>
        <c:axId val="39813756"/>
      </c:barChart>
      <c:catAx>
        <c:axId val="55263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13756"/>
        <c:crosses val="autoZero"/>
        <c:auto val="1"/>
        <c:lblAlgn val="ctr"/>
        <c:lblOffset val="100"/>
        <c:noMultiLvlLbl val="0"/>
      </c:catAx>
      <c:valAx>
        <c:axId val="39813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63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DE7-7B1A-4739-AC45-94202F7B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0EF-9C44-4080-90CB-492C02D9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313-02F4-4DA5-BA54-E0AFED70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DD6-05DC-445C-965B-30BC5AA3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FCD-CF17-4BC6-8078-E5CE22BB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88D-FAF6-4AD3-A2E9-C15D1A42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AD6-4D7D-4021-91EE-FA46E9C5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C24-81B7-431C-A2EE-5BA978A2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B47-0F3E-4DB1-9C52-C6592E33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7C0-9E62-499D-B862-640DD2BD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3CB-D27E-470C-91F4-1952AF8F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5B4-40A8-4363-84E3-ED474031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88012-0280-4548-8136-FF7FBBB0B6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