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95645"/>
        <c:axId val="42288204"/>
      </c:barChart>
      <c:catAx>
        <c:axId val="53395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88204"/>
        <c:crosses val="autoZero"/>
        <c:auto val="1"/>
        <c:lblAlgn val="ctr"/>
        <c:lblOffset val="100"/>
        <c:noMultiLvlLbl val="0"/>
      </c:catAx>
      <c:valAx>
        <c:axId val="42288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95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629-5194-4A09-8836-D1BDE795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E01-EAE0-4BB4-8147-FD6E9863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00D-4675-49AA-A088-FD6D5800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3F8-E19C-48AB-A85D-7EE74F00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607-54A7-4BC6-BD99-F5E5D620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988-4861-427F-8F62-73C7398D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3EF-D191-44AC-AA87-A1185A18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97C-8FA0-42D2-9A54-8A50AB0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F5E-5DD8-41AA-8CBE-50C6ADC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DB5-78CE-4561-8D4F-D2BA593C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ADB-9C92-47A3-90A4-982E8FC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96E-1A2D-4F5A-BEA1-FFD04FE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1A258-3EF5-4B52-A7FC-CCE620D626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