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64449"/>
        <c:axId val="7713471"/>
      </c:barChart>
      <c:catAx>
        <c:axId val="68264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13471"/>
        <c:crosses val="autoZero"/>
        <c:auto val="1"/>
        <c:lblAlgn val="ctr"/>
        <c:lblOffset val="100"/>
        <c:noMultiLvlLbl val="0"/>
      </c:catAx>
      <c:valAx>
        <c:axId val="7713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64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5E8-2051-4624-8823-CE4BFE04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0FC-E74A-432F-AFE4-F96363AB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968-E177-4783-830F-A15B5127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5D0-BC32-4D09-91C5-306B3C541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890-30C4-41C0-AE07-97C1A405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636-827A-48E8-8767-FF5377F6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1C5-E084-4782-9074-49074BA4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FFE-954D-4EF4-9C41-BF4BC8CF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911A-0B0F-4C94-BBD5-C2F0EA0D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E16-9C7D-48B0-BD0D-6CF36F8E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C9C-6096-4077-83E0-3C139B15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87A5-5D40-4DA5-A992-DE55D976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56E0A-50F4-4438-A27A-C8FDF826CD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