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84793"/>
        <c:axId val="95496362"/>
      </c:barChart>
      <c:catAx>
        <c:axId val="43284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96362"/>
        <c:crosses val="autoZero"/>
        <c:auto val="1"/>
        <c:lblAlgn val="ctr"/>
        <c:lblOffset val="100"/>
        <c:noMultiLvlLbl val="0"/>
      </c:catAx>
      <c:valAx>
        <c:axId val="95496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84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96D-C529-4F74-9F2C-C5F7BF78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3E0-12F0-4B12-8FE3-DAB9DBDB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265-838E-45C1-827E-29CD1820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513-0C28-4C19-8F9C-D3938E6B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DEB-D376-4FD8-85F7-BCA0CDBE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83B-DEA5-42E3-A842-FC2BC8B9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B37-3278-4252-BD1D-108C2A86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376-02D4-4AD3-B478-589AB563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293-A084-4F53-88F7-0245E998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64F-1859-425D-9371-D755E9BF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B09-BCE7-457C-87C2-0420684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D4B-0255-4C3F-AC5B-0646C64E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054D5-D27C-40AE-B437-57329A7174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